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6.gif" ContentType="image/gif"/>
  <Override PartName="/ppt/media/image25.gif" ContentType="image/gif"/>
  <Override PartName="/ppt/media/image24.gif" ContentType="image/gif"/>
  <Override PartName="/ppt/media/image32.jpeg" ContentType="image/jpeg"/>
  <Override PartName="/ppt/media/image23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22.png" ContentType="image/png"/>
  <Override PartName="/ppt/media/image12.gif" ContentType="image/gif"/>
  <Override PartName="/ppt/media/image3.jpeg" ContentType="image/jpeg"/>
  <Override PartName="/ppt/media/image37.jpeg" ContentType="image/jpeg"/>
  <Override PartName="/ppt/media/image10.gif" ContentType="image/gif"/>
  <Override PartName="/ppt/media/image31.gif" ContentType="image/gif"/>
  <Override PartName="/ppt/media/image34.png" ContentType="image/png"/>
  <Override PartName="/ppt/media/image33.png" ContentType="image/png"/>
  <Override PartName="/ppt/media/image30.gif" ContentType="image/gif"/>
  <Override PartName="/ppt/media/image36.png" ContentType="image/png"/>
  <Override PartName="/ppt/media/image38.png" ContentType="image/png"/>
  <Override PartName="/ppt/media/image35.gif" ContentType="image/gif"/>
  <Override PartName="/ppt/media/image40.png" ContentType="image/png"/>
  <Override PartName="/ppt/media/image39.png" ContentType="image/png"/>
  <Override PartName="/ppt/media/image9.gif" ContentType="image/gif"/>
  <Override PartName="/ppt/media/image13.gif" ContentType="image/gif"/>
  <Override PartName="/ppt/media/image7.png" ContentType="image/png"/>
  <Override PartName="/ppt/media/image1.jpeg" ContentType="image/jpeg"/>
  <Override PartName="/ppt/media/image6.wmf" ContentType="image/x-wmf"/>
  <Override PartName="/ppt/media/image11.gif" ContentType="image/gif"/>
  <Override PartName="/ppt/media/image8.gif" ContentType="image/gif"/>
  <Override PartName="/ppt/media/image4.wmf" ContentType="image/x-wmf"/>
  <Override PartName="/ppt/media/image14.gif" ContentType="image/gif"/>
  <Override PartName="/ppt/media/image5.jpeg" ContentType="image/jpeg"/>
  <Override PartName="/ppt/media/image15.gif" ContentType="image/gif"/>
  <Override PartName="/ppt/media/image20.png" ContentType="image/png"/>
  <Override PartName="/ppt/media/image27.gif" ContentType="image/gif"/>
  <Override PartName="/ppt/media/image28.jpeg" ContentType="image/jpeg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FAC-494A-44F1-A896-821E8F7D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F62A-6BCC-45D5-ABA8-D54875D4DB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3035-99D0-47EC-93EB-DC01CD79A4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8D9C-0C72-45FA-A2D9-519B95501F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2D35-1D84-47C0-8A52-955D7DF7C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267-15CC-4CD2-9069-B375478DC7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D162-F2CA-40B5-84AD-54375A698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B19-4C2A-45F6-9708-E5E210D98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C64-9780-4B13-9BD5-D3DCD9FB33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855-7C0F-4960-BF4B-467C9F95C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8BA2-A563-404B-8F23-3FAA12A9D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B2A8-1B52-4D1C-8C9E-5988E7CC70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0C4-1384-4B88-ADDD-0D878281E7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1FB-3BD3-4451-8ECA-DFCA57B947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D3B4-985B-46BA-8B73-94B5419B93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971B-9B03-4D63-A038-F81FA9A0F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9CD-DEC9-411D-A587-4C58E8276C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2F2-5DF7-4469-B111-1DF9DBB39B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743-92AE-42ED-B43E-D9138727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304-EAF1-4C4F-8CA0-453F5C6E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C19D4-5146-494E-A5D8-7A0060A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0DCA1-E7E1-4498-9F53-A6B9A466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E686E-20E0-4896-9132-B7EB04F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F46CB-8676-4C03-944E-D14A5F8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2E942-40BC-467B-8220-762B16F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40325-BEBE-4AA8-ACBF-0A616C5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13036-E76B-4AFA-9BA0-605E54F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F6A57-E414-410F-8393-C67292FC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39B27-0F40-4F73-80C3-1EAE110F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DFAE8-059F-4B7F-B2A2-941E8FD2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EF1-21AA-43CE-8433-E058758E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AB35F-F005-4DB8-8167-4577F13D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EABC1-661E-476A-9488-647F0927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89C5C-36CA-462A-9C31-3AB0937E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618B6-D781-4638-B3C8-E0AA7276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F8319-AE69-4A0E-ADE7-2702EF9D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D6951-2762-48DB-8368-681D8D17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43544-5293-4BA7-8AD2-2A04EA31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60540-B1DD-498C-82EB-A3B72A5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D8E48-1219-4852-A311-C5AF3D5D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33B89-9096-402E-90EC-319F9652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8A3-CC5D-4599-B5D9-3A5E46B9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6AA47-B42C-454F-B903-F86022F7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4A7BD-695D-4B36-9D63-4227A207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9D9F2-01F5-402B-AAEE-D011C2FA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9EF95-D640-43E6-B714-702DE3A0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0226-3C1E-4CA5-A1B1-3DAA40E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C9691-DCB5-4747-8498-B6C2A66F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72474-7AF5-433F-BE26-633B6FD8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604AC-BBD7-45D2-B9F6-90C56C13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2ED46-6483-4087-BB75-51080BC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42D82-0F5C-41F5-8D69-DE1A2F9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9C0-1E14-493A-9704-4D316A26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7BF4C-C14D-4A3E-978E-1FB96B8B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7D5C5-0138-46C4-81D6-7CB70AAE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EDD0D-CDC5-4717-8055-E952269D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ED9A5-2E78-4CB8-84CE-415D678C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E4181-4BC3-4ED0-BDEB-51FFF526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0BF8B-A5CD-4A65-ACCC-68565C59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D1B53-EBAE-41DD-858F-EF710BAE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022DD-FAA5-467F-BB35-505EF42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0E642-5101-4C8C-9862-97A47CD1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93A29-625D-473D-B323-F34E599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6D75-EE77-4D3B-A20E-28F1A611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6ABBF-C1AE-451A-BA03-70FD394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012CE-8085-4D8E-B7EA-C446B0F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8B440-EAD8-4A2E-BE6F-7E4D75E7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DF754-BCB7-48A3-82BF-933F0427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F0BA3-AD3F-4627-AAED-4894926F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86289-214B-4BF9-9DA4-6936F01E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0DEFA-CEFF-4A94-B46D-88E53798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F0052-AFC8-4E86-88F3-A80CA9E3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2A6AF-A805-4D4E-92C9-8B7CB761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3C866-A9AF-4552-9D3B-9387EA16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0343-F659-4A91-BC0A-737736B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90965-3555-4953-93B6-6DE725A6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73E0D-9B78-4DB3-9A2C-38801FB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A1DA4-2F17-4002-870B-F2DE4FC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0582F-2888-4743-869E-BCB8E19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2FCCB-3041-405A-B6AB-30A0C09E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EEBC7-F3CD-4E7F-BBE2-C3245773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010C5-65D5-479A-B774-E25D329B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CB193-2A92-4823-ABE1-1E38A83E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BD497-1DDA-4376-9CB3-C156243A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C9ECD-58F2-4C98-B1A9-FB3F2D0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567-D456-43AD-8ECF-869F430B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271E8-CCF1-4612-8D2E-81CCEB1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90AD2-CA30-41B7-AD62-FCD43426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82DE3-490F-4020-8A30-8B0F8033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044D1-9303-4E92-B9C9-543AFE1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DC90F-49D0-4DC2-8C52-6B92BD4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A41EE-776E-4452-91D8-D32A44B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05526-E262-4724-9953-00F4579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C3EC2-B738-4799-82E9-EA426D8F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CBD12-249A-4C6C-B115-C59043B2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82C6D-3333-426C-A8C8-7D79086B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7747-C091-4E9A-BB7F-E3773FB6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31318-34D9-4397-B729-288E445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88EEF-0C1E-402C-A0F8-D22828E5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FC61A-1F46-42C3-BDA9-2826D06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EFDBD-3AE6-4061-A84E-34CB1B9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69660-C500-45B3-B773-B59A49E8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E99D9-C8BC-498B-8FA4-BF54AB7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3C4DD-A5DB-4516-AEC3-0FDD531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7A0D4-AA71-47D7-8E4E-CDA8FF80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1AF6A-8CAA-49CE-A55F-A5613B8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E22E0-9260-46C9-AF40-DCFE94FA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273F-4439-4B3A-9336-04873D64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A5C57-93E2-4525-B5A0-0ED58B0F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C9CAA-A4D5-4ACC-A739-317DE2A4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60177-52BC-4998-B3B6-E499B400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C0C1A-D1C8-42A3-B208-249B55A3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652AC-0DF9-4B51-AD73-C5225F37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156A6-E017-4A79-A98D-931D5C4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A684D-2B94-42A8-97D0-38655BCD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F11AB-58A1-4BBF-A853-C7E0A57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B5C6D-CDB2-4FE9-A4DF-F3581A5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4A7FC-132C-47B9-95AF-AF31892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E6B2-E9C2-4A8E-BF59-4016D80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83738-2131-4F67-894D-0B3325DB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AB5DC-869F-4D92-81AC-7DD9CF6E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95196-B710-47C5-9AC4-ACD5EE39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94C-1D9F-428D-BDD0-2349852D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AB7D-C179-4DAD-A563-E29C283A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AD1D-4451-4C05-BC10-C8C7DFC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94B4-BEC7-44F9-8F17-AA3C339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7B83-C8C5-4664-9C5D-1628011D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FC7C-9986-4D1A-9F0E-611C7D98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003E-B32E-4C1B-BAEA-3D57A270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D29F-41A2-4586-A7F3-FF1877F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324E-9E6B-4380-AB24-B59ECEB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C6EE-0E8B-497F-B7E7-712283DD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6098-41EC-4303-9D72-9B7B0CA0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FD4-BC08-4954-BBCD-BC2827D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10A9-B529-48FB-B127-9EFD1233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73A1-EFF9-4B82-8319-335E861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950C-1CE7-44D9-AF08-BA5DF69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82EB-DC01-4538-AD3A-1AB4A333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1620-FEAD-4D2A-861D-1CA419C4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A4BC-ADCF-48C3-A6C9-75489BFA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B669C-6930-4803-8474-A46FE7B5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5EEF-4AAB-4D1A-A610-198AF0CA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D9B1-AC7A-48E6-93F9-F0C1734F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47AF-BDC8-45A2-879A-8D30DF03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A9F-D4C2-44DB-B843-A41106A3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ED9A2-2841-4DDD-8121-0493AECD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95C7-3457-430B-AB4C-51E51F5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C848-7272-4FDC-A91A-C58EF78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2A2D-B174-4129-A2C3-DE53F27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E17A1-4FF1-48FD-B925-D8B329F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C251-F1D3-4E6B-A60A-5A02A22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B384-65C7-495B-80B4-AE59CB88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BA32-44EA-47FD-A027-D087236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F3FD-9F39-439A-9B0D-8F23298A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29C3F-4627-428C-872F-C66AADC1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FE1-07A8-48A6-9CD0-2AF1DA6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3E50-0150-41EA-A7ED-176B7DE4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2ED7D-C460-4C2A-822B-FA5BF9C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FF0A0-FA92-4B19-8525-AB15569B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87181-43D9-4895-A13D-0BF554E9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E1C0-29BB-4000-962C-EC096A75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5D42-B57D-483B-B3C2-83830EC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1EDEB-B92A-4C8B-95E9-1141D98E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376E9-FB7F-45B2-94AC-8AE30CB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AA0E-A9BB-4D98-85DE-B1FC3BD3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ED602-989B-417F-A312-914C151D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B9D-1B2D-413B-B7BE-A9D8E535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D0C1-717E-4AF4-AFFE-0D3E0EEB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1A59-EC12-47F7-A790-CBB218BE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ADA4-EA4B-4236-A559-21EFAF0E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AA9F1-F374-4061-BBFF-6CA8958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02D5D-A4BC-4055-BC25-B622993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3FBE-2F1E-4831-9A79-2A3F020E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B1B2D-F5B1-4D7C-9CA9-460BB4F7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F46CB-4E32-4B28-AC77-F64C7BD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C4D6-201A-4BF7-BDE8-586328F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9E33-FA83-4DDE-AF07-3B02942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3BA-C447-46A1-B5C9-54857DB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71B9-008F-41FD-9E87-A211F99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BFDA-EFFC-41DF-8D0A-53C52189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2E746-965C-4D66-A94E-FAD1CBD9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CCB60-F0B8-4B2E-849E-A5A6062E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3900-9A2F-46B5-8CCB-2A8091DF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167D-F4C5-4A3D-A65E-5438A06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02893-990B-48FF-91E2-58933BD6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3A804-752B-40B8-BE70-1C372AA0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EDAC6-6C1C-43E1-80F2-1BC69434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254E2-D350-4320-9F7F-DE229A0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FD4-2558-4324-9ADC-138F81F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1EFD-E80C-4CD9-A975-731EE009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4C78-2589-4F57-8D42-4BC7B3D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E526-91D3-444F-BCC1-647BEBB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B6D3E-730D-40BE-87F9-6B52325B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1547F-367B-42E8-ACB8-32F7422A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991A9-94C9-45B2-9C0A-BAA58E8C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CBE8-F185-43A9-8826-6AFF1FDF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B101A-509F-4500-B40E-77707C74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9379B-AD9C-4361-9864-E771E355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0E77-0B04-42A5-9F45-3A341A84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9EC-C3A7-494D-AC7D-436CD33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DE4D-5747-4267-9611-9955D2B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50BB-FE8F-4083-9EAF-4908FE7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2675-96A6-41DD-AF8F-635797D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A17EF-8D08-495E-B13A-B39E5CD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EE0A5-1EBE-4CD1-9FBC-8C002A7D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12CE1-AED0-4B1A-805F-DF400DD6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A6CE-0C19-4619-B301-E2EF276C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88442-CE74-4E44-AEBB-A3A4378A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F88AB-1D69-465B-9350-68349B6F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D944D-DD11-4821-8136-6FFC693C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EEF5-09F7-4D0E-8D5F-A469919CA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1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DBBE-32B7-487D-88A9-3ECF5E95C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CA3A-77A6-4DE9-A72D-2E245D55F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E018-2092-486A-954D-D9225C612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4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71B-E81B-44CB-96BD-AD620F79E1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9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ACF9-B3B1-414E-AD33-67F335BD3D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3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3D5-23D9-4FC9-8AE6-39CE262833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8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5814-3CCE-4BBC-907A-FABDD9D562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9087-F9D0-400C-9CDC-1B0A6CD1E4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783B-2EDA-45FA-9684-20453CC0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C51C-4CE0-4AF6-8C86-428FEB7B3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AB34-BC3F-4A71-8FC3-476B0E663F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3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C73-1239-4BF8-BE3F-62C6963656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53E-1722-4038-8A4B-0D95DAD21E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24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4F75-9635-4F2D-B272-FAA4614C3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64C0-F0A3-4D08-A86B-5B9A756EA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Uq9hynzCVo&amp;feature=related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75248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800" spc="-1" strike="noStrike">
                <a:solidFill>
                  <a:srgbClr val="ffffb7"/>
                </a:solidFill>
                <a:latin typeface="Verdana"/>
              </a:rPr>
              <a:t>Energy</a:t>
            </a:r>
            <a:endParaRPr b="1" lang="en-US" sz="1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36" name="Picture 4" descr="MPj03993710000[1]"/>
          <p:cNvPicPr/>
          <p:nvPr/>
        </p:nvPicPr>
        <p:blipFill>
          <a:blip r:embed="rId1"/>
          <a:stretch/>
        </p:blipFill>
        <p:spPr>
          <a:xfrm>
            <a:off x="6095880" y="3657600"/>
            <a:ext cx="1827360" cy="27399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MCj04040190000[1]"/>
          <p:cNvPicPr/>
          <p:nvPr/>
        </p:nvPicPr>
        <p:blipFill>
          <a:blip r:embed="rId2"/>
          <a:stretch/>
        </p:blipFill>
        <p:spPr>
          <a:xfrm>
            <a:off x="7238880" y="9144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8" descr="MPj03154930000[1]"/>
          <p:cNvPicPr/>
          <p:nvPr/>
        </p:nvPicPr>
        <p:blipFill>
          <a:blip r:embed="rId3"/>
          <a:stretch/>
        </p:blipFill>
        <p:spPr>
          <a:xfrm>
            <a:off x="609480" y="380880"/>
            <a:ext cx="1103400" cy="1676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9" descr="MCj02331050000[1]"/>
          <p:cNvPicPr/>
          <p:nvPr/>
        </p:nvPicPr>
        <p:blipFill>
          <a:blip r:embed="rId4"/>
          <a:stretch/>
        </p:blipFill>
        <p:spPr>
          <a:xfrm>
            <a:off x="2133720" y="3886200"/>
            <a:ext cx="2347920" cy="2320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" descr="MPj03993890000[1]"/>
          <p:cNvPicPr/>
          <p:nvPr/>
        </p:nvPicPr>
        <p:blipFill>
          <a:blip r:embed="rId5"/>
          <a:stretch/>
        </p:blipFill>
        <p:spPr>
          <a:xfrm>
            <a:off x="3581280" y="228600"/>
            <a:ext cx="20275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types of energy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97" name="Forms_of_Energy.asf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70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9898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Potential and Kinetic Energ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44400" y="182844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 five forms of energy can be classified as either potential or 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is stored or energy of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ne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is the energy of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3526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Kinetic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ster an object moves the more kinetic energy it h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etic energy depends on mass and velocity (speed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tretch/>
        </p:blipFill>
        <p:spPr>
          <a:xfrm>
            <a:off x="2362320" y="5029200"/>
            <a:ext cx="5257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alculation K.E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800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has more kinetic energy, an 80 kg man moving at 4 m/sec or a 40 kg boy moving at 8 m/se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.E.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kg x 4m/sec2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 640 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.E.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0 kg x 8 m/sec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,280 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Picture 5" descr="http://ffden-2.phys.uaf.edu/211_fall2002.web.dir/shawna_sastamoinen/Velocity&amp;Kinetic_files/image003.jpg"/>
          <p:cNvPicPr/>
          <p:nvPr/>
        </p:nvPicPr>
        <p:blipFill>
          <a:blip r:embed="rId1"/>
          <a:stretch/>
        </p:blipFill>
        <p:spPr>
          <a:xfrm>
            <a:off x="5410080" y="1433520"/>
            <a:ext cx="3381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Potential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428640" y="1904760"/>
            <a:ext cx="571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bject stores th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based on position like a stretched rubber band, a wound-up watch, anything held up high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stored in a battery as chemical, in fuel until it is burned, stored in the nucleus until it is sp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Picture 5" descr="http://www.physicsclassroom.com/class/energy/u5l1b1.gif"/>
          <p:cNvPicPr/>
          <p:nvPr/>
        </p:nvPicPr>
        <p:blipFill>
          <a:blip r:embed="rId1"/>
          <a:stretch/>
        </p:blipFill>
        <p:spPr>
          <a:xfrm>
            <a:off x="228600" y="2895480"/>
            <a:ext cx="32004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ravitational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energy that is dependent on height.  Example:  waterfall, falling snowfl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r up an object is the more G.P.E. it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mass, the more G.P.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.P.E. = weight x h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and Kinetic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13" name="Potential_and_Kinetic_Energy.asf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55754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Energy Conversions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*take your own notes here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energy types can be changed from one form in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motor is electromagnetic to mechanic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is chemical to electromagne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is nuclear to electromagnetic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form of energy can the sun’s energy be converted to?  Hint: f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ial Black"/>
              </a:rPr>
              <a:t>Energy Conversion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3296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energy conversion involves the changing of potential energy to kinetic energy or kinetic energy to potential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Picture 4" descr="Balls"/>
          <p:cNvPicPr/>
          <p:nvPr/>
        </p:nvPicPr>
        <p:blipFill>
          <a:blip r:embed="rId1"/>
          <a:stretch/>
        </p:blipFill>
        <p:spPr>
          <a:xfrm>
            <a:off x="457200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820" name="Picture 4" descr="maxpotkin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7"/>
          <p:cNvSpPr/>
          <p:nvPr/>
        </p:nvSpPr>
        <p:spPr>
          <a:xfrm>
            <a:off x="45720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low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693432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speed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oney Tune Energy?.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42" name="Picture 6" descr="C:\Users\ddirish\AppData\Local\Microsoft\Windows\Temporary Internet Files\Content.IE5\O85GW60H\MC900383904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447920"/>
            <a:ext cx="4510080" cy="4495680"/>
          </a:xfrm>
          <a:prstGeom prst="rect">
            <a:avLst/>
          </a:prstGeom>
          <a:ln w="0">
            <a:noFill/>
          </a:ln>
        </p:spPr>
      </p:pic>
      <p:pic>
        <p:nvPicPr>
          <p:cNvPr id="743" name="Looney Tunes - Wile E Coyote &amp; Roadrunner.wmv" descr=""/>
          <p:cNvPicPr/>
          <p:nvPr/>
        </p:nvPicPr>
        <p:blipFill>
          <a:blip r:embed="rId3"/>
          <a:stretch/>
        </p:blipFill>
        <p:spPr>
          <a:xfrm>
            <a:off x="1623960" y="1427040"/>
            <a:ext cx="6226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Nuclear Power Plant  </a:t>
            </a: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         Exampl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24" name="Picture 4" descr="hair"/>
          <p:cNvPicPr/>
          <p:nvPr/>
        </p:nvPicPr>
        <p:blipFill>
          <a:blip r:embed="rId1"/>
          <a:stretch/>
        </p:blipFill>
        <p:spPr>
          <a:xfrm>
            <a:off x="1371600" y="2039760"/>
            <a:ext cx="617220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nservation of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Law of Conservation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s that energy can be neither created nor destroyed by ordinary m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 Einstein’s Theory of Relativity states that mass and energy are directly related, energy and mass are interchange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ther words:  the smaller something is the more energy it creates.  Example: 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sics principl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ce is required to change the motion of an object.  Changes the energy of every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on is faster when more energy is us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is the rate at which work is done and the rate at which energy is consu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onclus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0" name="Review.asf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757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1698" fill="hold"/>
                                        <p:tgtEl>
                                          <p:spTgt spid="8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8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This is just the beginning of Physics!!! I know you’re excited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2" name="Picture 6" descr="concenergy"/>
          <p:cNvPicPr/>
          <p:nvPr/>
        </p:nvPicPr>
        <p:blipFill>
          <a:blip r:embed="rId1"/>
          <a:stretch/>
        </p:blipFill>
        <p:spPr>
          <a:xfrm>
            <a:off x="1752480" y="2606760"/>
            <a:ext cx="6477120" cy="3998880"/>
          </a:xfrm>
          <a:prstGeom prst="rect">
            <a:avLst/>
          </a:prstGeom>
          <a:ln w="0">
            <a:noFill/>
          </a:ln>
        </p:spPr>
      </p:pic>
      <p:pic>
        <p:nvPicPr>
          <p:cNvPr id="833" name="conservation of mass and energy.mp3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59636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b7"/>
                </a:solidFill>
                <a:latin typeface="Arial Black"/>
              </a:rPr>
              <a:t>Energy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ergy - the ability to do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asured in jo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5 MAIN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1240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Forms of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Picture 4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1557360" cy="1752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6" descr=""/>
          <p:cNvPicPr/>
          <p:nvPr/>
        </p:nvPicPr>
        <p:blipFill>
          <a:blip r:embed="rId2"/>
          <a:stretch/>
        </p:blipFill>
        <p:spPr>
          <a:xfrm>
            <a:off x="7362720" y="3173400"/>
            <a:ext cx="1206720" cy="1189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8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" descr=""/>
          <p:cNvPicPr/>
          <p:nvPr/>
        </p:nvPicPr>
        <p:blipFill>
          <a:blip r:embed="rId4"/>
          <a:stretch/>
        </p:blipFill>
        <p:spPr>
          <a:xfrm>
            <a:off x="4572000" y="2971800"/>
            <a:ext cx="1400040" cy="11034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11"/>
          <p:cNvSpPr/>
          <p:nvPr/>
        </p:nvSpPr>
        <p:spPr>
          <a:xfrm>
            <a:off x="3583080" y="6051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7045920" y="59752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7331040" y="42228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4875480" y="39178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6178680" y="1784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Mechanical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nergy that is associated with </a:t>
            </a:r>
            <a:r>
              <a:rPr b="0" lang="en-US" sz="3600" spc="-1" strike="noStrike" u="sng">
                <a:solidFill>
                  <a:srgbClr val="333300"/>
                </a:solidFill>
                <a:uFillTx/>
                <a:latin typeface="Arial"/>
              </a:rPr>
              <a:t>mo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4" descr=""/>
          <p:cNvPicPr/>
          <p:nvPr/>
        </p:nvPicPr>
        <p:blipFill>
          <a:blip r:embed="rId1"/>
          <a:stretch/>
        </p:blipFill>
        <p:spPr>
          <a:xfrm>
            <a:off x="6991200" y="1905120"/>
            <a:ext cx="1289160" cy="9064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"/>
          <p:cNvPicPr/>
          <p:nvPr/>
        </p:nvPicPr>
        <p:blipFill>
          <a:blip r:embed="rId2"/>
          <a:stretch/>
        </p:blipFill>
        <p:spPr>
          <a:xfrm>
            <a:off x="5583240" y="4443480"/>
            <a:ext cx="2557440" cy="8017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3"/>
          <a:stretch/>
        </p:blipFill>
        <p:spPr>
          <a:xfrm>
            <a:off x="3962520" y="2743200"/>
            <a:ext cx="780840" cy="9428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9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895320" cy="704880"/>
          </a:xfrm>
          <a:prstGeom prst="rect">
            <a:avLst/>
          </a:prstGeom>
          <a:ln w="0">
            <a:noFill/>
          </a:ln>
        </p:spPr>
      </p:pic>
      <p:sp>
        <p:nvSpPr>
          <p:cNvPr id="765" name="WordArt 10"/>
          <p:cNvSpPr txBox="1"/>
          <p:nvPr/>
        </p:nvSpPr>
        <p:spPr>
          <a:xfrm>
            <a:off x="6858000" y="2743200"/>
            <a:ext cx="1895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terfall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6" name="WordArt 11"/>
          <p:cNvSpPr txBox="1"/>
          <p:nvPr/>
        </p:nvSpPr>
        <p:spPr>
          <a:xfrm>
            <a:off x="4876920" y="1905120"/>
            <a:ext cx="117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WordArt 12"/>
          <p:cNvSpPr txBox="1"/>
          <p:nvPr/>
        </p:nvSpPr>
        <p:spPr>
          <a:xfrm>
            <a:off x="6019920" y="5257800"/>
            <a:ext cx="89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WordArt 13"/>
          <p:cNvSpPr txBox="1"/>
          <p:nvPr/>
        </p:nvSpPr>
        <p:spPr>
          <a:xfrm>
            <a:off x="685800" y="4343400"/>
            <a:ext cx="107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o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9" name="Picture 14" descr=""/>
          <p:cNvPicPr/>
          <p:nvPr/>
        </p:nvPicPr>
        <p:blipFill>
          <a:blip r:embed="rId5"/>
          <a:stretch/>
        </p:blipFill>
        <p:spPr>
          <a:xfrm>
            <a:off x="2438280" y="4800600"/>
            <a:ext cx="1105200" cy="1276200"/>
          </a:xfrm>
          <a:prstGeom prst="rect">
            <a:avLst/>
          </a:prstGeom>
          <a:ln w="0">
            <a:noFill/>
          </a:ln>
        </p:spPr>
      </p:pic>
      <p:sp>
        <p:nvSpPr>
          <p:cNvPr id="770" name="WordArt 15"/>
          <p:cNvSpPr txBox="1"/>
          <p:nvPr/>
        </p:nvSpPr>
        <p:spPr>
          <a:xfrm>
            <a:off x="1219320" y="60958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t moving 700 km/h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WordArt 16"/>
          <p:cNvSpPr txBox="1"/>
          <p:nvPr/>
        </p:nvSpPr>
        <p:spPr>
          <a:xfrm>
            <a:off x="3809880" y="3809880"/>
            <a:ext cx="146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l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2" name="Music"/>
          <p:cNvSpPr/>
          <p:nvPr/>
        </p:nvSpPr>
        <p:spPr>
          <a:xfrm>
            <a:off x="5181480" y="1447920"/>
            <a:ext cx="447840" cy="218880"/>
          </a:xfrm>
          <a:custGeom>
            <a:avLst/>
            <a:gdLst>
              <a:gd name="textAreaLeft" fmla="*/ 165240 w 447840"/>
              <a:gd name="textAreaRight" fmla="*/ 434160 w 447840"/>
              <a:gd name="textAreaTop" fmla="*/ 9360 h 218880"/>
              <a:gd name="textAreaBottom" fmla="*/ 54000 h 21888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20"/>
          <p:cNvSpPr/>
          <p:nvPr/>
        </p:nvSpPr>
        <p:spPr>
          <a:xfrm>
            <a:off x="6025320" y="61279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Know these examp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Heat Energy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8536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l motion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ster the particles move, the hotter they 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from fri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1854360" cy="202896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6"/>
          <p:cNvSpPr/>
          <p:nvPr/>
        </p:nvSpPr>
        <p:spPr>
          <a:xfrm>
            <a:off x="3657600" y="40705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3870360" y="39178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3265920" y="5029200"/>
            <a:ext cx="438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iction is producing heat betwe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aw and the wood.  Tur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chanical energy i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at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4417560" y="46339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DO NOT WRI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Picture 10" descr="http://www.energyeducation.tx.gov/img/energy_logo.gif"/>
          <p:cNvPicPr/>
          <p:nvPr/>
        </p:nvPicPr>
        <p:blipFill>
          <a:blip r:embed="rId2"/>
          <a:stretch/>
        </p:blipFill>
        <p:spPr>
          <a:xfrm>
            <a:off x="6738840" y="228600"/>
            <a:ext cx="2117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Chemical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s in the bonds that hold atoms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rning fuel or when our body uses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2362320" cy="207324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7" descr="http://www.tech-faq.com/wp-content/uploads/images/Chemical-Energy.gif"/>
          <p:cNvPicPr/>
          <p:nvPr/>
        </p:nvPicPr>
        <p:blipFill>
          <a:blip r:embed="rId2"/>
          <a:stretch/>
        </p:blipFill>
        <p:spPr>
          <a:xfrm>
            <a:off x="4800600" y="304812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Electromagnetic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electric charges (electric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8" descr=""/>
          <p:cNvPicPr/>
          <p:nvPr/>
        </p:nvPicPr>
        <p:blipFill>
          <a:blip r:embed="rId2"/>
          <a:stretch/>
        </p:blipFill>
        <p:spPr>
          <a:xfrm>
            <a:off x="6950160" y="2863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" descr=""/>
          <p:cNvPicPr/>
          <p:nvPr/>
        </p:nvPicPr>
        <p:blipFill>
          <a:blip r:embed="rId3"/>
          <a:stretch/>
        </p:blipFill>
        <p:spPr>
          <a:xfrm>
            <a:off x="5334120" y="4419720"/>
            <a:ext cx="15238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Nuclear Ener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708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us is a source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and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1600200" cy="1568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6" descr=""/>
          <p:cNvPicPr/>
          <p:nvPr/>
        </p:nvPicPr>
        <p:blipFill>
          <a:blip r:embed="rId2"/>
          <a:stretch/>
        </p:blipFill>
        <p:spPr>
          <a:xfrm>
            <a:off x="6095880" y="3929040"/>
            <a:ext cx="2028960" cy="20574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8" descr="http://images.fastcompany.com/upload/nuclearpower.jpg"/>
          <p:cNvPicPr/>
          <p:nvPr/>
        </p:nvPicPr>
        <p:blipFill>
          <a:blip r:embed="rId3"/>
          <a:stretch/>
        </p:blipFill>
        <p:spPr>
          <a:xfrm>
            <a:off x="1752480" y="3929040"/>
            <a:ext cx="3338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1:20:58Z</dcterms:created>
  <dc:creator> none</dc:creator>
  <dc:description/>
  <dc:language>en-US</dc:language>
  <cp:lastModifiedBy>Kimberly K. Piper</cp:lastModifiedBy>
  <dcterms:modified xsi:type="dcterms:W3CDTF">2015-09-17T00:10:03Z</dcterms:modified>
  <cp:revision>24</cp:revision>
  <dc:subject/>
  <dc:title>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